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EF13-91EF-4447-8EA4-30D90428C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7DAD-04D6-481B-999F-1C06967F1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9DD7A-02AB-42C3-856D-C71694DA0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D6615-9BA1-45B8-BB90-802C64891E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53B6-AF7A-432C-A667-83096DD372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0844-B59F-47FA-956C-98DEB0BC0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7D6D-FF45-40F0-B01A-7D3628FD9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5F192-98D9-40B2-A492-ED18B958B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22738-EC8B-4974-A326-82297BE44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B0BFE-AA8D-4610-BE48-2B988C9A4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EB133-546E-43F2-A1F1-D6C7A0012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8CC15-0EE6-4F4A-9871-CF1C833BD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756F-FE63-422F-976E-139D16571E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7D8E-4D30-4807-9317-C9EBAC3462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amp Journ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09120" y="1599840"/>
            <a:ext cx="5257800" cy="3429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the challenges to providing feedback to students in the mo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2C47-27EF-4261-A18D-B03B9A452D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freetechjournal.com/blog/wp-content/uploads/2010/12/press-journal.gif"/>
          <p:cNvPicPr/>
          <p:nvPr/>
        </p:nvPicPr>
        <p:blipFill>
          <a:blip r:embed="rId1"/>
          <a:stretch/>
        </p:blipFill>
        <p:spPr>
          <a:xfrm>
            <a:off x="6019920" y="1600200"/>
            <a:ext cx="2514600" cy="30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 Proportional Mosaic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large the little square you were given onto the larger squ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e the larger square onto the corresponding number on the chart pa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E3B3-3744-4284-9124-CF3FB030CC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010C-EE6C-4FDF-AC31-285F0E179D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Breakout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want to explore the big ideas in Proportional Reas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want to explore how we can support students by providing feedback in the moment that supports their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7668-265A-4D39-96A1-15EFE1C89E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 Proportional Tas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BF6C-DAAF-49E1-9A5B-001A272A55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6858000" cy="41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 Frayer Model for Proportional Reas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plete the Frayer Model and share your responses with your table grou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EE6B-2356-42E7-8C74-6CE8DDA7A4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Back to our task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ne pair - Share your strategy for solving the problem with the rest of you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ther pair – Think of what feedback you can prov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witch ro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44B8-18D3-4BE6-8967-668B687514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ooking at student work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types of responses do you anticip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FCDA-F7F6-4E35-9AF2-6A033B6274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ooking at student work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the feedback you could provide the student. Write the feedback on a sticky note and paste on the student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the feedback from Sample 1 on its chart paper, Sample 2 on its chart paper, and so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AB47-B071-4C74-88D1-87F5405BAD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oving forw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can we scaffold the problem for struggling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can we add a challenge for students who have solved 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520E-4CA6-408B-9303-B71392FAFD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Image Builder</cp:lastModifiedBy>
  <dcterms:modified xsi:type="dcterms:W3CDTF">2011-08-12T15:46:32Z</dcterms:modified>
  <cp:revision>11</cp:revision>
  <dc:subject/>
  <dc:title>&lt;Title&gt;</dc:title>
</cp:coreProperties>
</file>